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33A-7DC6-441B-8CA1-0AA8E88B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9EE-A7DF-4398-95D8-334B6A8A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3B3-840E-4DD6-B9CD-9992F0D1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FDA-9867-472B-A4A9-89E45633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0BA-DFD1-491D-AE96-92AAEFFC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F8C-354D-4558-8980-79EEE0E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BE0-1649-4F37-8AB7-E3BFFA42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F3F-0BE1-477D-AE74-1386F36F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05B-688B-44D9-BA5D-466AEFEE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4F3-4BA4-4928-84B7-03CE8F8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06E-7616-49C4-BECB-34F495AE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D2B-FB24-44D1-9AF5-0682DA8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CC99-9F68-4FEB-A01B-AEB3906F4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5840" y="2230560"/>
            <a:ext cx="850104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 о репродуктивном здрављ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661000"/>
            <a:ext cx="640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00040" y="37861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ни приступ примени естрогена код постменопаузалних ж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иње током феталног живота, али се не завршава све до тренутка оплођења јајне ћел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феталног живота, путем митоза долази до пролиферације оогонија (завршава се на половини живота фетуса када се ооците заустављају у фази прве мејотичке деоб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ђењу број јајних ћелија износи 1-2 милиона, а на почетку пубертета у јајнику се налази око 100000 ооци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е ћелије могу бити стимулисане да се потпуно развију и ослободе током овулације или могу одумрети у процесу атрез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унутар структура – фолику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имулисани фоликул садржи једну примарну јајну ћелију окружену једним слојем гранулоза ћелија, које су окружене тека ћелија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четку сваког месечног оваријалног циклуса неколико фоликула бива стимулисано – само један постаје доминантни фолику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ља развој све до овул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оликулу који се развија, увећава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а ћел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анулоза ћел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јајне ћелије се формира бистар желатинозни прстен екстрацелуларног матрикс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 пелуци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тни фоликул постаје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ов фолику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наглог и интезивног ослобађањ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мон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ас) ооцит унутар Графовог фоликула завршава прву мејотичку деобу и поста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ооц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кањем Графовог фоликула у врем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ул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бацује се јајна ћелија у перитонеалну дупљу близу фимбрија јајов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нути фоликул колабира, гранулоза ћелије пролиферишу, под утицајем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ази до структуралних промена у току којих прснути фоликул постаје жуто тело 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lute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енструални цикл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а активност хипоталамо-оваријалне осов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овулације и истовременог развоја повољне средине унутар материце која може да подржи трудноћу (ако јајна ћелија буде оплођен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и циклус и оваријални циклус се понављају отприлике сваких 28 да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дан менструалног крварења означава први дан менструалног циклу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догађаја унутар јајника, оваријални циклус се дели у три ф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икула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14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-15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теин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-28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оликуларна фаза (1-14 дан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 се током прве половине менструалног цикл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претходни циклус ближи крају, жуто тело одумире, настаје нагли пад концетрациј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а, естрогена и инхиби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аз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трација ФСХ у плазми расте (губитак негативне повратне спрег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ФСХ група примарних фоликула почиње да расте (процес почиње у последња 2-3 дана претходног циклус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оза ћелије под утицајем ФСХ луч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синтезу естрогена као супстрат се користе андрогени који се синтетишу у ћелијама тек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средине фоликуларне фазе наступа супресија лучења ФСХ (спречава се активирање више фоликул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љује с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тни фолику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ома осетљив на деловање ФСХ, који се даље развија и лучи естроген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 доминантни фоликули претрпе атрезиј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аза овулације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(13-15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ЛХ тала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почиње овулацију која се коначно догоди око 12 сати након што ниво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у плазми достигне врхунац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Доминантни фоликул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сигнализира хипофизи да је сазрео (ослобађа велике количине естрогена, механизмом негативне повратне спреге делује на гонадотропне ћелије предњег режња хипофизе чинећи их остљивијим на деловање гонадотропин-ослобађајућег хормома (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nR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хипоталамус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имарна ооцита завршава прву мејотичку деобу – постаје већ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екундарна ооци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велики пораст концетрације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, зауставља се у фази друге мејотичке деобе (до оплодње остаје у тој фаз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прскање доминантног фоликула услед деловања: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прогестерона и локално ослобођених простагланди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лобођена јајна ћелија окружен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зоном пелуцидо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гранулоза ћелиј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утеинска фаза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(15-28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 се жуто тело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имулише диференцијацију тека и гранулоза ћелија у тека-лутеинске и гранулоза-лутеинске ћелиј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секреторни продукт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акође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лутеинске фазе високи нивои естрогена нису у стању да изазову поновни пораст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бог постојања високих нивоа прогестеро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не догоди трудноћа жуто тело пропа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ну трудноћу од суштинског значаја је да постоји континуирана секреција прогестерона којег лучи жуто тел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догоди имплантација ембриона, трофобластне ћелије плаценте, која је у фази развоја, луче хормон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гонадотроп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налог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ржава функцију жутог тела све док плацента не преузме функције синтезе великих количина прогестерон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Хормонски систем код жене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1125360"/>
            <a:ext cx="8651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хормонски систем, слично као код мушкарца, има три хијерархијски повезана ниво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јући хормон хипоталамуса – гонадотропин-рилизинг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R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и хормони аденохипофизе: фоликулостимулирајући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лутеинизирајући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 јајника, естроген и прогестерон, које луче јајници стимулисани дејством два полна хормона аденохипофиз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енопау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“недовољне функције јајника”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менструације је универзална карактеристика менопауз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 нивоа естроге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саниц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ади врелине (валунз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личит степен атрофије вагиналне слузн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мањење величине дој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теопороз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ит пад концетрације естрогена и прогестер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ком функције јајника губи се негативна повратна спрега на ГнРХ, тако да у серуму расту концетрациј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 жена у постменопаузи је посебно повишен услед недостатк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ормона којег је лучио јајник и који је, механизмом повратне спреге, селективно деловао на лучењ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ње јајне ћелије и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892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и јајна ћелија обично се успешно срећу у проширеном делу јајовода (ампул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ње јајне ћелије се дешава унутар уског временског интервала, само неколико сати од овула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на јајна ћелија се задржава у јајоводу током наредна три да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ајоводу се оплођена јајна ћелија дели и настаје солидна маса од 12 или више ћелија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ул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ула се током наредна три дана развија 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оцит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слободно лебди у шупљини матер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имплантације бластоците у ендометријум материце долази 6-7 дана након овула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3"/>
          <p:cNvSpPr/>
          <p:nvPr/>
        </p:nvSpPr>
        <p:spPr>
          <a:xfrm>
            <a:off x="5572080" y="357120"/>
            <a:ext cx="2852640" cy="292896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Non scholae, sed vitae discim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Haurit aquam cribro qui discere vult sine lib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еплодно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ност жене да затрудни након 12 месеци редовних полних односа у којима нису коришћена заштитна сред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7% без утврђеног уз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% фактори код мушкар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8% фактори код же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тадијуми фертилизациј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1628280"/>
            <a:ext cx="843588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се везују за зону пелуци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зомална реакција (акрозом – велика секреторна везикул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 пробија зону пелуци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пање мембрана јајне ћелије и сперматозои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ална реакција јајне ћелије изазвана уласком једра сперматозоида (“каљење зоне пелуциде” – спречавање полиспермиј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пронукле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и пронукле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гамија: пронуклеуси се спаја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јена јана ћелија ћелија се развија током 6-7 дана пре него што се импланти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упљини материце, пре имплантације, секрет ендометријалних жлезда исхрањује ембри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 унутар шупљине материце се постепено апсорбује преко прстолистих наставака ендометријум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оп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адијуму бластоцисте, ембрион који се развија има сферни облик; то је шупљина која је испуњена течношћу коју окружу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ј ћелија трофобла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II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тација се одвија у три стадијум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зиц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варање лабаве везе између трофобласта и ендометрију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хез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теракција преко специфичних лиганд-рецептора када се на трофобластним ћелијама појаве микровили (убрзо се трофобласт диференцира у два слоја: унутрашњи - цитотрофобласт и спољашњи окренут ендометријум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з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дометријалне стром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мбрион потпуно уроњен у ендометрију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синцициотрофобластне инвазије, цео ендометријум пролази кроз даље биохемијске и морфолошке промене, које чине процес децидуализаци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цидуална реакциј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дуална реакција започиње на месту имплантације и шири се у концетричним круговима кроз цео ендометрију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стељица (плацента)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у изграђују елементи пореклом од мајке и од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а има две основне функ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анспорт матер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ндокрина жлез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 продире у дубље слојеве ендометријума и формир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у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рвни судови мајке у ендометријуму буду еродирани, лакуне се испуњавају мајчином крвљу, спајају у један простор и формирају интервилозни просто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нске ресиц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у да расту из цитотрофобласта да би направиле контакт са лакуна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илозни простор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онаша попут џиновског капилара, у који улази свежа крв из мајчиних спиралних артерија, а која напушта постељицу путем вена постељиц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стељица (плацента)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1267920"/>
            <a:ext cx="8569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релим хорионским ресицама се налазе фетални крвни капилар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тервилозном простору се налази мноштво хорионских ресица које формирај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нску плоч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крв, која протиче кроз хорионску ресицу долази у плаценту путем две пупчане артерије, које се након уласка у хорионску плочу вишеструко гранај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из хорионских ресица се враћа у фетус преко пупчаних ве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-плацентарна мембрана обезбеђује размену материја између крви мајке и фетуса и садрж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ндотел капилара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ј цитотрофобласта и мезенхимске ћелије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ј синцициотрофобласта који је окренут ка базену мајчине крв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ранспорт материја кроз постељ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се комбинацијом активних и пасивних механизама транспор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 и угљен-диоксид се транспортују простом дифузиј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а се у фетални крвоток транспортује механизмом олакшане дифузиј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 хемоглоби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већи афинитет за кисеоник од хемоглобина одраслих, тако да при вредности парцијалног притиска кисеоника од 30 ммХг, Колики је По2, у пупчаној вени, остварује се засићење хемоглобина од 80-9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се углавном транспортују механизмом секундарног активног транспор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молекуле попут липопротеина мале густине (ЛДЛ), антитела и друге пептиде (трансферин) преузимају ћелије синцициотрофобласта путем рецепторски-посредоване ендоцитоз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транспорта се знатно повећава у последњим недељама трудноће, одражавајући убрзан раст фетуса у том перио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ски систем новорођенчета састоји се од ИгГ мај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лацентарни пепти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гонадотропин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и жуто тело од дегенерације и обезбеђује континуирано лучење прогестерона ради подршке и одржавања ране трудноћ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а преузима функцију лучења прогестерона око 8-9 недеље трудноћ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тога концетрација хЦГ у плазми се снижава, али и даље остаје значајна за одржавање лучења прогестерона из ћелија синцициотрофобла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арна секреција хЦГ је под паракрином контролом локално произведеног ГнР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соматотропин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хумани плацентарни лактоге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 сличан хормону раста и пролактин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искоришћавање гликозе код мајке и смањује мајчин одговор на инсулин, чиме се штеди гликоза за потребе фету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 и кетонска тела су важни енергетски извори за плод и постељицу, а хЦС стимулише стварање тих супст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рају трудноће стимулише развој млечних жлез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удноће нивои естрогена и прогестерона у крви мајке много су виши него у било којој фази нормалног менструалног цикл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и нивои стероидних хормона су неопходни за одржавање трудноћ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 је у утерусу неопходан да би одржао децидуу и релаксирао глатки мишић утеруса са циљем спречавања избацивања пло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девете недеље трудноће већина стероида у крви мајке пореклом је из постељ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у синтезе стероидних хормона постељици помажу и мајка и фетус у смислу обезбеђивања потребних супстрата и ензима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-плацентарно-фетална једи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ДЛ холестерол пореклом од мај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 стероидогенезу у плаценти (плаценти недостају ензими који су неопходни за синтезу холестерола из ацетата; када је снабдевана довољном количином холестерола, плацента може да синтетише прогестерон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и недостају ензими потребни за синтезу естрогена, али она садржи ензи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аз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ја је активност веома висока и чијим деловањем се андрогени претварају у естроге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убрежне жлезде фетуса снабдевају плаценту слабим андрогеним хормонима који се у плаценти претварају у естрогене хормо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дбубрежним жлездама се синтетише дехидроепиандростерон-сулфат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његов већи део се у јетри фетуса претвара у 16-хидрокси-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3"/>
          <p:cNvSpPr/>
          <p:nvPr/>
        </p:nvSpPr>
        <p:spPr>
          <a:xfrm>
            <a:off x="5572080" y="357120"/>
            <a:ext cx="2852640" cy="292896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Не учимо за школу већ за живот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Црпе воду решетом ко хоће да учи без књиг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(Е3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интетише у плаценти из 16-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т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нормалног менструалног циклуса естриол не представља посебно важну врсту естрогена, али се у трудноћи он сматра главним естрогеним хорм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има слаб естрогени ефекат у већини мајчиних органа, али појачава утеро-плацентарни проток кр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етусу се не синтетишу ни прогестерон нити естрогени, чиме се избегава изложеност фетуса високим концетрацијама ових хорм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а фетус синтетише велике количине слабих андрогена, до маскулинизације женског фетуса не долази, је плацента делује као велики одвод за феталне андроге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имена естрогена код менопаузалних ж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916280"/>
            <a:ext cx="84470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ублаже неке од тегоба постменопаузалног пери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е остеопоро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е поједине манифестације старењ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нопауз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 дефицита естр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 измењеног метаболизма естр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минантна форма постаје естрон (настао екстрагландуларном конверзијом прехормона, а не естрадиол који секретује јајн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а естрогенима у менопау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а супституција естрадиола једним или другим аналогом естроге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Естрогени доступни за супституциону 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говани естрог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е за естроген (диетилстилбестро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и естрогени (етинил естрадиол или дерива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изовани естради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креме с естроге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лни фластери с естроге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елективни модулатори естрогених рецеп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оксиф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о дејство на кост и КВ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естрогени ефекат на дојку и утер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 се за ЕР и изазива промене конформације у домену рецептора везаном за транскрип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ју ефекте на валунг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ски режими који са собом носе мали ризик од појаве компликација обухвата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242100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у терапију естрогенима у најнижој ефективној дози током 25 дана у месецу или континуирану примену сваког дана у месец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 уз додатак прогестерона последњих 10 до 14 дана терапије естрогени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у свакодневну примену нискодозних препарата прогестаген + естроге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о селективне модулаторе 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ни позитивни ефекти терапије естроген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ње вазомоторне нестабилности (таласи врући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ње атрофије урогениталног епи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нје атрофије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отенцијалне компликац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ендометриј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дој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емболијск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 настанка калкулозе жучне ке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198900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дуготрајно примењују естрогени, треба давати минималну ефективну дозу (0,625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гованог естрогена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s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1,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изованог естрадиола или трансдермално 0,05-1,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астерима који се мењају једном или два пута недељн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жена с интактним утерусом неки клиничари примењују само естроген током првих 15 дана, а затим естроген и прогестерон до краја месе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и терапијски режим је континуирана примена естрогена уз континуирано мале дозе прогестер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4723920"/>
            <a:ext cx="6480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изиологија женског репродуктивног система 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21333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а супституциона терапија је рутински индикована код жена с превременом менопаузом (хируршком или спонтан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естрогенима је такође рутински индикована код жена са веома израженим валунзима или симптомима атрофије урогениталног епите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аси врућине ретко перзистирају дуже од 7 година, тако да је терапија дата с овом наменом временски огранич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2133360"/>
            <a:ext cx="86421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жена којима је урађена хистеректомија потенцијална корист  од терапије превазилази ризик, тако да се препоручује циклична или континуирана примена естрогена без прогестер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естрогене треба рутински уводити код свих жена са интактним утерусом и даље је нерешено питање, али аутори препоручују терапију ако нема контариндикација ради ублажавања остеопорозе и смањења ризика за настанак кардиоваскуларних обољ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оксифен таблете дају се у дози од 6о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, када је циљ превенција губитка коштане масе без додатног ризика од настанка естроген-зависног карцинома дој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жена на терапији естрогенима мора бити рутински праћена једном годиш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иказ пациј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ођа К.Х., стара 42 године, непушач, од пре 6 месеци нема менструациона крвављења. Последња два месеца више пута у току дана добија нападе врућине, када се лице и врат прелију црвенилом, а потом пацијенткиња презноји. Када напад врућине прође, јављају се осећај хладноће и дрхтавица. Такође, пацијенткиња се жали на губитак концентрације и памћења. Пацијенткиња више година води живот са мало физичких а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уноси довољно млека ни млечних производа. У породичној анамнези постоји податак да је тетка пацијенткиње оперисана због карцинома дој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169992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утврдити да се пацијенткиња налази у менопауз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менопауза заиста потврди, да ли пацијенткиња треба да надокнађује полне хормон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хормонски препарат за надокнаду треба изабрати код ове пацијенткињ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треба урадити пре увођења препарат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репродуктивни 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3640" y="1699920"/>
            <a:ext cx="8064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 репродуктив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о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иц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и репродуктив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е полне женске жлезде (гонад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о одвијања гаметогенезе (оогенез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извор полних стероидних хорм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ју једну јајну ћелију (ооцит) у репродуктивни тракт (једном месечно?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олошки изглед јајника се разликује зависно од периода оваријалног циклу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ар растућих фоликула се могу виде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Јајне ћелије у различитим фазама развој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Жуто тело (цорпус лутеум) – привремена ендокрина жлез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Jajo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у јајну ћелију и сперматозоиде до места њиховог спајања (фертилизациј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у зигот до места његове имплантације у материц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ајоводу се разликују четири де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мбриј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столики наставци, који прихватају јајну ћелију након што се она ослободи из јајника у току овулације (трепљасти епител, облаже лумен јајовода и покреће јајну ћелију дуж јајовода према материц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оплодње јајне ћелије (фертилизација) 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му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маже да се ембрион задржи у јајоводу 2-3 дана (током тог периода сазревање ендометријум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урални де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есто уласка јајовода у материчну шупљину (рог материц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920" y="1125360"/>
            <a:ext cx="8642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ишићни орган крушколиког изглед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ја – да подржи раст фетуса за време трудноћ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томска грађа материце обухвата три де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а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fund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рлић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р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вик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бикални ка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викална слу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време овулације, под утицајем високе концетрације естрогена и ниске концетрације прогестерона, водњикава и ретка, што омогућава пролазак сперматозоида – “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пратизација” цервикалне слуз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аснијим фазама менструалног циклуса високе концетрације прогестерона подстичу лучење гушће слузи која онемогућава пролазак сперматозои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и слој мате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чни ендометријални циклус има три фа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феративна фаз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ва половина циклуса, пре овулације, под утицајем високих концетрација естрогена задебљање ендометријума, раст енсометријалних жлезда, појава спиралних артер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реторна фаз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руга половина циклуса, доминантан утицај прогестерона, ендометријалне жлезде припремају ендометријум за имплантацију ембрио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а фаз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е дође до имплантације ембриона, ниво прогестерона опада, месечни циклус се ближи крају, спазам спиралних артерија материце (некроза ткива, слој ендометријума се одлубљује, менструално крварење (мензис) које траје 4-5 дан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метрију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6-09-04T12:10:5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